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6C3-0002-40BB-A054-646B425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8BB-D2AE-4D6B-BD07-081591A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CC3-3103-47B6-AFF8-0B3E6BCA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A30-270E-47CB-B77B-AD21636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0A5-6879-41A6-829C-F0CD1249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96E-A47A-4035-9029-7D7A9A63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64BB-B6F6-42D0-879A-B13966F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62B-A138-470F-A81E-FC0AED8A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567-87E3-413E-A604-390036CF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7C3-E00F-4306-A701-A46791E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77F3-0974-4C6A-8414-CFDE584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719-48DC-4941-88D3-9C93E1A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EC8-6B0D-4A02-A71C-A8D0EB5A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2381-26A3-4D83-840E-5446097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67E6-CFF7-4C9D-A5FA-FA87CC8B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39FE-A952-45C9-A51B-E1D645F9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84C-6281-43D1-9D12-66F2C2DD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CD8-3A4B-40C9-83E7-550C7B7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0E1-1D92-4A75-9780-60D7467B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F56-6066-40ED-827A-13BBE53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F9F-D389-46CE-9A09-D367BCCD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C55-6822-4E1E-BED1-9433349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2CF-FFF6-4DD7-B7A0-51F8D3E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D8E-81B6-4A99-B7AC-C01F2D3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E5ED-0CA1-43EB-BA87-9C2E0D5C7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875-55A9-498B-94E5-2B5BC6ADB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MCj04379900000[1]"/>
          <p:cNvPicPr/>
          <p:nvPr/>
        </p:nvPicPr>
        <p:blipFill>
          <a:blip r:embed="rId1"/>
          <a:stretch/>
        </p:blipFill>
        <p:spPr>
          <a:xfrm rot="857400">
            <a:off x="6300360" y="333000"/>
            <a:ext cx="2560680" cy="244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IDENTIFICAREA NEVOILOR ELEVILO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Profes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IVANCU  CLAU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3" descr="OJTVAKCAREAUQ7CAWDKVL0CAL5OHRMCAUI74CPCA0SYOFECAADLBHQCAFM6Z31CARIQPU5CAYBEY6HCAWAKAO2CAI8XBJNCALD8NL2CAGXUU8HCARGCPE2CAN2WHHGCAVGYKV2CALL1MWOCA3KNL82CAN2292S"/>
          <p:cNvPicPr/>
          <p:nvPr/>
        </p:nvPicPr>
        <p:blipFill>
          <a:blip r:embed="rId2"/>
          <a:stretch/>
        </p:blipFill>
        <p:spPr>
          <a:xfrm>
            <a:off x="324000" y="4149720"/>
            <a:ext cx="16333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Times New Roman"/>
              </a:rPr>
              <a:t>RĂSPUNDEŢI LA URMĂTOAREA ÎNTREBARE: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19280" y="263700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e înseamnă să fi întreprinzător şi să acţionezi într-un spirit antreprenorial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6" descr="MargBar"/>
          <p:cNvPicPr/>
          <p:nvPr/>
        </p:nvPicPr>
        <p:blipFill>
          <a:blip r:embed="rId1"/>
          <a:stretch/>
        </p:blipFill>
        <p:spPr>
          <a:xfrm>
            <a:off x="1332000" y="5373720"/>
            <a:ext cx="6696000" cy="98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j0424474"/>
          <p:cNvPicPr/>
          <p:nvPr/>
        </p:nvPicPr>
        <p:blipFill>
          <a:blip r:embed="rId2"/>
          <a:stretch/>
        </p:blipFill>
        <p:spPr>
          <a:xfrm>
            <a:off x="324000" y="1413000"/>
            <a:ext cx="1479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Times New Roman"/>
              </a:rPr>
              <a:t>Despre întreprinzăto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413000"/>
          <a:ext cx="8229600" cy="4903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este întreprinzăto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 este instrumentul principal al întreprinzător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rumentul principal al întreprinzătorului este planul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este antrepreno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 sunt elementele componente ale planului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e realizează un plan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ribuţiile întreprinzător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e face un studiu al pieţ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alităţile de studiu a pieţ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mpărţirea sarcinilor într-o firm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ne promovăm şi distribuim produs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ăile prin care se promovează şi distribuie un prod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88" descr=""/>
          <p:cNvPicPr/>
          <p:nvPr/>
        </p:nvPicPr>
        <p:blipFill>
          <a:blip r:embed="rId1"/>
          <a:stretch/>
        </p:blipFill>
        <p:spPr>
          <a:xfrm rot="20967000">
            <a:off x="250560" y="263520"/>
            <a:ext cx="145404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8" descr=""/>
          <p:cNvPicPr/>
          <p:nvPr/>
        </p:nvPicPr>
        <p:blipFill>
          <a:blip r:embed="rId1"/>
          <a:stretch/>
        </p:blipFill>
        <p:spPr>
          <a:xfrm rot="648600">
            <a:off x="7235640" y="259920"/>
            <a:ext cx="1584000" cy="165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Times New Roman"/>
              </a:rPr>
              <a:t>Despre spiritul antreprenorial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1628640"/>
          <a:ext cx="8229600" cy="417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iritul antreprenorial este înnăsc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iritul antreprenorial poate  fi şi dobân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ă ne dezvoltăm spiritul antrepreno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poate fi ales traseul profes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ne ne poate influenţa în alegerea trase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aluarea propriului potenţ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influenţează alegerea traseului profes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nul personal de carie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uctura portofoliului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7:10:35Z</dcterms:created>
  <dc:creator>PC</dc:creator>
  <dc:description/>
  <dc:language>en-US</dc:language>
  <cp:lastModifiedBy>Carmen</cp:lastModifiedBy>
  <dcterms:modified xsi:type="dcterms:W3CDTF">2011-03-24T08:56:50Z</dcterms:modified>
  <cp:revision>27</cp:revision>
  <dc:subject/>
  <dc:title>EVALUARE INIŢIALĂ</dc:title>
</cp:coreProperties>
</file>